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5A8-84A0-4B7E-A89C-0F6667FA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EFA-D678-46A4-A5C2-D5B19613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5DF-0093-4EFB-84AB-92746D80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AA5-90BD-4B45-B48B-995FC97D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F7B-8BF5-4FA8-92AB-217DC120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B84-F0CC-445F-B764-45F92CEB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105-09CE-439E-B9B3-A97AF544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3F5-0E36-4695-9F2F-206156B3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73D-73AE-4611-AEDD-B5B79B67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E79-1A1B-4195-ABEF-7E2D111B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8D7-DB79-4926-8B22-8E2042DA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DB6-4A0E-4120-8B8E-F983D458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568F-2C94-4CF4-A440-3E4C807E3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380880"/>
            <a:ext cx="66294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ff66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s Comidas Que Me Gustan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ff66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5105520"/>
            <a:ext cx="7391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: Joy Maswosw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29000" y="3652920"/>
            <a:ext cx="2057400" cy="135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743880" y="1447920"/>
            <a:ext cx="24001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133720" y="0"/>
            <a:ext cx="518148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El Desayuno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362320" cy="157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477120" y="3657600"/>
            <a:ext cx="2300040" cy="153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3200400"/>
            <a:ext cx="1981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anquesques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43400" y="3276720"/>
            <a:ext cx="2286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Cereal</a:t>
            </a:r>
            <a:endParaRPr b="0" lang="en-US" sz="1800" spc="1" strike="noStrike">
              <a:ln w="12600">
                <a:solidFill>
                  <a:srgbClr val="66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47920" y="59436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Zumo De Narajan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81680" y="5334120"/>
            <a:ext cx="20574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Tocino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0000"/>
            </a:gs>
            <a:gs pos="100000">
              <a:srgbClr val="cc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438280" y="533520"/>
            <a:ext cx="4496040" cy="876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El Almuerzo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113976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00600" y="1828800"/>
            <a:ext cx="2057400" cy="140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858000" y="4038480"/>
            <a:ext cx="1981080" cy="1801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388620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Samusa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71800" y="5105520"/>
            <a:ext cx="1676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Púrpura fanta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0" y="3505320"/>
            <a:ext cx="13050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Sub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7120" y="5867280"/>
            <a:ext cx="2466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Espagueti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71800" y="457200"/>
            <a:ext cx="3324240" cy="1257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99ff66"/>
                </a:solidFill>
                <a:latin typeface="Arial Black"/>
              </a:rPr>
              <a:t>La Cen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754280"/>
            <a:ext cx="2743200" cy="1841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80880" y="3581280"/>
            <a:ext cx="2057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l Arroz y Pollo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514600" y="5257800"/>
            <a:ext cx="22096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l Cream de Refresco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62520" y="2133720"/>
            <a:ext cx="2438280" cy="1658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495680" y="3505320"/>
            <a:ext cx="1371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l Taco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010280" y="3886200"/>
            <a:ext cx="17528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315200" y="5181480"/>
            <a:ext cx="144792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l Pizza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p:transition spd="med">
    <p:strips dir="l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048120" y="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El Postrea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438640" cy="1809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600" y="3429000"/>
            <a:ext cx="27097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Masa Para Galletas De Helados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438280" cy="162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200400" y="3505320"/>
            <a:ext cx="1465200" cy="1952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2819520" y="47235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irle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05120" y="5410080"/>
            <a:ext cx="38862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Shirley Temple 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93432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400800" y="5562720"/>
            <a:ext cx="2438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s magdalenas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562720" y="2971800"/>
            <a:ext cx="34383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s Galletas De Azúcar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 spokes="1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3:35Z</dcterms:created>
  <dc:creator>maswoswejoy</dc:creator>
  <dc:description/>
  <dc:language>en-US</dc:language>
  <cp:lastModifiedBy>maswoswejoy</cp:lastModifiedBy>
  <dcterms:modified xsi:type="dcterms:W3CDTF">2012-04-05T14:12:59Z</dcterms:modified>
  <cp:revision>8</cp:revision>
  <dc:subject/>
  <dc:title>Slide 1</dc:title>
</cp:coreProperties>
</file>